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B20-F735-4F77-A769-E83A525A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8722-78CA-4E14-9BA0-98080879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330-5A66-4AA7-91BD-524DCCBC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D5D-D703-4728-A64B-B0B43660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7249-73FE-4060-8884-84F2502E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B255-1FAE-454F-8CD0-47714DDE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8517-AEC7-4C0D-BC86-D13C6A67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4F66-AAE8-4BC1-AEC1-22747A32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F9EA-7C58-41B1-BCDE-EA3F2591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644D-7824-4855-A3ED-DCE746DD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46F9-9ADC-478F-9B65-5361B223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7FE-DF63-470F-964D-4BE293F9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30AD-0719-4411-8A6C-D96673D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2DE8-3ECC-413F-84D4-2F993287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34C5-FA9B-4247-9269-C5344A22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2E8A-09C7-475A-8990-7ABD311C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6A11-F25B-4DF5-B2FB-72992469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415-3C31-4A99-83C4-4911C5DF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B85-F047-4359-8349-07FD6637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657-0A51-4F81-A61B-94852DB8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057-64A0-484E-BC84-339F401E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53F-375B-4743-B737-19599DB5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CD6-BE08-4F9A-B4F9-E2B2E2D8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F9E-1EF2-43C6-B0C3-5DEF94BC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1B63-B259-445B-A80F-DFEA7E7BC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8B0F-590A-4B5A-BD12-BB22BB18B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Verdana"/>
              </a:rPr>
              <a:t>Nathan Hale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By Tiffany Simp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amp Featuring The Great Patrio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7338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gic Death For Mr. Hale, At 21 Years 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2670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han Hale In A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ud Standing Statue Of Mr. Ha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0193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Unmarked Grave Ston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29397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emoriam of Nathan Ha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0004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 School House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35766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3:14:13Z</dcterms:created>
  <dc:creator>Milford Public Schools</dc:creator>
  <dc:description/>
  <dc:language>en-US</dc:language>
  <cp:lastModifiedBy>Milford Public Schools</cp:lastModifiedBy>
  <dcterms:modified xsi:type="dcterms:W3CDTF">2007-11-28T13:23:46Z</dcterms:modified>
  <cp:revision>2</cp:revision>
  <dc:subject/>
  <dc:title>Nathan Hale </dc:title>
</cp:coreProperties>
</file>